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72E-6C65-431E-9856-06BC2FE3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362-5077-4F64-9050-A17B8B5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89B-D9E1-4F7E-8BA3-8869B818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045-A0F5-4E06-B8E2-148CFCD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7778-24AA-40F6-9AA1-AAADD71B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6B2-4E56-4157-8E97-74D08171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0DF3-9092-4F86-A6E5-2140E74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4EC-1961-4740-91E4-72A82E3C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E4E-C26E-4300-8739-ECF49E81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6230-5B1C-4B60-AE66-9CAEDC6B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794-4CD0-46D0-93A3-76D5BCF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A45-4CC8-4F05-9F01-25882920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85A1-3CD8-47B4-95FF-00E1BD12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603-6A89-4230-A7B8-A22A6B3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2E72-E610-4A18-9E3A-42D3EDC8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9272-204F-46B2-A5DF-7CC82CF4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632A-84A7-4C38-88C7-28AFC791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A59-44FC-41AC-B922-A173577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4EC-9A3E-40F9-9ECC-7AAEC1AC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EF0-688E-48FD-ACBA-4B877937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1B4-945F-42C6-BBBB-FD99419E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4C5-AA42-41FF-8F71-E84C6FE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2F0-9AD5-41A1-B177-043613A6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77A-B34A-4CD3-ACE6-A7593DA9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2FD9-22FE-40D1-99BC-80B0CF147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BB02-EEEE-492A-AB9D-8FBF9F08D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Big Picture: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during Understandings and Essential Questions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Content Placeholder 3" descr="Learning_Cycle_Tree.png"/>
          <p:cNvPicPr/>
          <p:nvPr/>
        </p:nvPicPr>
        <p:blipFill>
          <a:blip r:embed="rId1"/>
          <a:stretch/>
        </p:blipFill>
        <p:spPr>
          <a:xfrm>
            <a:off x="3886200" y="2354400"/>
            <a:ext cx="1606680" cy="358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aracteristics of an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nduring Understan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volve the big ideas that give meaning and importance to f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transfer to other topics, fields, and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usually not obvious or concr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ustify the use of teaching a sk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deliberately framed as general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s of Enduring Understa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hors write with different purposes in m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ers develop a deeper understanding through reflection of tex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 the structures that humans have to serve different functions in growth and surviv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number sense and number relation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Your Turn..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urn to a partner and describe the common elements of an enduring understand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 algn="ctr">
              <a:lnSpc>
                <a:spcPct val="13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ssential questions help drive instruc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are the Common Element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0200" y="20574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ave no simple, right ans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aise other important questions, often cross subject bounda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Often address philosophical or conceptual foundations of a discipl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nnect to students’ lives and intere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s of Essential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reading influence u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hat ways is the past about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ords or phrases come fr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akes me health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show a part of someth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Your Turn..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urn to a partner and describe the common elements of an essential ques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1:45:02Z</dcterms:created>
  <dc:creator>Herbert Hoover Middle School</dc:creator>
  <dc:description/>
  <dc:language>en-US</dc:language>
  <cp:lastModifiedBy>.</cp:lastModifiedBy>
  <cp:lastPrinted>2002-08-20T20:16:17Z</cp:lastPrinted>
  <dcterms:modified xsi:type="dcterms:W3CDTF">2009-10-02T02:03:09Z</dcterms:modified>
  <cp:revision>63</cp:revision>
  <dc:subject/>
  <dc:title>The Skillful Teacher: Expectations </dc:title>
</cp:coreProperties>
</file>